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4FD-C08C-4F99-BD11-2624CF3D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xfh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659-A5AD-4FE5-8281-B90CE06F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B77-7C5D-40A0-9075-9A7D34E0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A8B-079D-4CC6-9232-A927734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8B8-2CA0-41AD-BF3E-A66A0668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BF7-BB0B-429A-B515-BAE281C4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26F-40BB-4177-920C-996A4C4F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88D-14E8-402A-8FB8-0D37EC1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B66-9825-40D0-BC6B-3CD40B00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978-0E76-4B0C-92D9-E0800F14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ABB-F89A-4EB3-AAE6-24277C0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AB2-87AD-4F50-A193-474BC93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7DF-15EF-485F-8B72-49B19BF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F94-20A8-4993-8B55-886C903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969-2D3E-4500-BC21-D4A60E97A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yle Ba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kbps.jpg"/>
          <p:cNvPicPr/>
          <p:nvPr/>
        </p:nvPicPr>
        <p:blipFill>
          <a:blip r:embed="rId1"/>
          <a:stretch/>
        </p:blipFill>
        <p:spPr>
          <a:xfrm>
            <a:off x="324000" y="2133720"/>
            <a:ext cx="882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of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kbpy.jpg"/>
          <p:cNvPicPr/>
          <p:nvPr/>
        </p:nvPicPr>
        <p:blipFill>
          <a:blip r:embed="rId1"/>
          <a:stretch/>
        </p:blipFill>
        <p:spPr>
          <a:xfrm>
            <a:off x="1828800" y="2228760"/>
            <a:ext cx="49528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kbpa.jpg"/>
          <p:cNvPicPr/>
          <p:nvPr/>
        </p:nvPicPr>
        <p:blipFill>
          <a:blip r:embed="rId1"/>
          <a:stretch/>
        </p:blipFill>
        <p:spPr>
          <a:xfrm>
            <a:off x="299880" y="2505240"/>
            <a:ext cx="82346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kbpnwr.jpg"/>
          <p:cNvPicPr/>
          <p:nvPr/>
        </p:nvPicPr>
        <p:blipFill>
          <a:blip r:embed="rId1"/>
          <a:stretch/>
        </p:blipFill>
        <p:spPr>
          <a:xfrm>
            <a:off x="203040" y="2548080"/>
            <a:ext cx="8636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kboy.jpg"/>
          <p:cNvPicPr/>
          <p:nvPr/>
        </p:nvPicPr>
        <p:blipFill>
          <a:blip r:embed="rId1"/>
          <a:stretch/>
        </p:blipFill>
        <p:spPr>
          <a:xfrm>
            <a:off x="1004760" y="2819520"/>
            <a:ext cx="623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kbhr.jpg"/>
          <p:cNvPicPr/>
          <p:nvPr/>
        </p:nvPicPr>
        <p:blipFill>
          <a:blip r:embed="rId1"/>
          <a:stretch/>
        </p:blipFill>
        <p:spPr>
          <a:xfrm>
            <a:off x="762120" y="2505240"/>
            <a:ext cx="7848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kba.jpg"/>
          <p:cNvPicPr/>
          <p:nvPr/>
        </p:nvPicPr>
        <p:blipFill>
          <a:blip r:embed="rId1"/>
          <a:stretch/>
        </p:blipFill>
        <p:spPr>
          <a:xfrm>
            <a:off x="-6480" y="1752480"/>
            <a:ext cx="915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ba2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kba3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kbc1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 but kept economic ties with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kbc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kbd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kbjy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kbmy.jpg"/>
          <p:cNvPicPr/>
          <p:nvPr/>
        </p:nvPicPr>
        <p:blipFill>
          <a:blip r:embed="rId1"/>
          <a:stretch/>
        </p:blipFill>
        <p:spPr>
          <a:xfrm>
            <a:off x="1905120" y="2133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25:11Z</dcterms:modified>
  <cp:revision>95</cp:revision>
  <dc:subject/>
  <dc:title>Ancient Greece</dc:title>
</cp:coreProperties>
</file>